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92C3-4463-4679-952E-55AEBBFD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378-019D-44FC-B86D-57EF83BA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C31AA-0177-4CB7-8AF8-B0F88DA4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7A3A2-AE82-41B6-B406-4BDC4DB8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A8D82-357B-4EC4-B265-F0F8CC65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94643-309D-4D1C-868E-C5573822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EA21F-27FD-4C1E-8159-AE809BCD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DAD3E-B62C-468C-90A4-45A04A6F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19FBF-EEE2-403E-B53E-C4BECCD8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E6B0E-4705-4767-84E7-272D733C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43170-CF6E-4382-8267-94AF8D83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D69AA-311A-443B-819F-8E8B2F96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2E70-40CA-47EE-BE48-F2978D69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4CB26-0EF9-4712-90F4-F9A47886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10CBE-21EC-49D3-AA69-EC279042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3BD2E-F3B8-42C3-AFE6-6B1B1B70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B7F7B-8B7C-495A-99EF-BA07E9D3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D8E59-0120-4797-803F-91185C10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9CE30-B1D2-4BCC-820C-D14C14C8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628BF-E93F-4415-867D-30F1F98C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FB952-DD32-430D-8EEC-0E0A3BD7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C75B0-AB57-4B5E-9DD2-40BF17EF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8DCFF-E17E-4924-9A4F-A2C9E40A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4BC-3B8B-49CD-BCAB-E9C1512F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420A4-8ABA-4362-8A7B-8D89D303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1F7A1-1CE4-4735-8532-8BE8756A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D9231-36D2-467D-8AD6-80A704E9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39AAC-7B1E-404C-8AC5-50877713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53091-2DE2-4AB6-BEF2-7C2FBB18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F97DA-5897-4038-8DE5-C886C414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6EBF9-A07E-46CF-9180-BC81A4DE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EE051-8909-417A-9CC3-CE063D46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906A9-E07F-40AD-B15F-C33A19DD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B1978-77B5-4649-A894-F3DEFC33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830C-9782-4693-9748-23BD865E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76D98-4CDE-4E86-B615-300C822F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E14F8-98AF-4732-AD0F-092DDC50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82F26-B87A-4D8A-9A79-A6854EEB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1D058-6E73-4344-A314-FF412A69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56CC8-87D8-4835-91C7-40FAD7F8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6C110-D672-49C2-A0E4-4A5A7C09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4E5F9-AD34-41F9-96FB-31B47581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CA45A-1799-46EF-B92A-E0EBA5D7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6702A-067D-49E1-A44D-E101AD10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E68FC-9BE9-4988-B6DC-2A8471C9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4FCA-CFD2-405F-BB86-E0054482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375BB-9838-4BC6-9966-D6C1FE3B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49220-5907-4DBC-AEF5-A4444233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10826-6A57-4DA6-BBDA-4C78C9A8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0FCB6-8FD6-4EB9-922B-1C994ADD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566AE-88AA-472C-B194-86ED4731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48A368-F6BF-45EF-A638-454543DF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167FE-0A9A-43B0-B9A5-49EB6EAA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C1C60-9B8C-40B2-8180-22866FDD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B1AA1C-691B-4CFC-99A5-A1D51097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C3B304-CCC6-451F-B264-EF7401CC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791F-10CC-4473-BE8D-243D1DFB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D2C4A-F9CE-4BBD-A3B8-4D1F996E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A736B-4C39-49FC-8014-27A6DE93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9C052-4C2A-4A1B-AE41-061F20A5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C298C-9F5A-401D-9E15-43FEB8E7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C33F5-CAB7-4BD7-A47E-F5AAE694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B9860-0428-4D65-B618-5793363C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C5AC0-43DC-4C0E-89AC-861B2DC1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BCA9C-3915-4C61-9451-DE32F5EE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865BC-DDB5-4C85-9010-7426CEB6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F8799B-0148-415B-A2EA-5FC89B34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F453-BAE7-4BA1-B35F-45F7032B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D05161-01E1-49DE-AA28-F0E8F68E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B95F37-67E1-47EA-83D5-13739B4A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DA545-2554-4588-8173-40339201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01D00A-4AE3-4C88-A914-F48BD828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C5D20-2797-4841-A7AC-61867F71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668F6-FCEF-43BD-825A-241851D5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287F9-08CF-4BE7-964C-0D08DAB9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563224-CF95-4D45-83E8-84D90394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2F38E-949B-407F-A15C-FB46D11B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3FFC77-C76B-4880-AEDC-924C533F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8893-6853-4058-B6E1-2A59793C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3B247E-313E-4AFD-A4AE-BBE23F1B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8C5E8-EF50-4824-96DB-C202830D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75277B-D658-423A-83D5-D0735F39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4279FC-1B02-4E06-8845-1DBDF6F0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DF223B-FFC8-4CA8-8762-62BEB74E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6935C-B8D0-41C2-B063-BF2DA5AE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F826A5-A51A-4469-9A41-F90CF92A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41CBE-60B6-4147-B466-28D810FE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5D654B-DB94-466E-9907-150D2265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D5D3F-1815-4CA1-9819-154907E1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D0E5-E8EA-4D8E-9746-C307BACC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3B01EC-8604-47BD-9A56-75E7BE38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CAA5AB-8874-4474-97B4-E737BFF4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BBC3A0-EF4E-4116-A20D-DC7C676B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61D7BC-6452-4C86-8101-C6805A11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87613E-51D4-4E51-BC59-30FA197F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DCE78B-66E8-497B-8930-BCE7A2B6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FA5390-50B7-459F-981B-3F5025C3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4F25C9-29B9-4B88-8304-28EF7DAD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2AED8C-97CE-4A9A-B8B9-1F5244AD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E5CD4F-85F7-47AA-A406-90D37EA3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E754-86F7-4920-B5CF-684E30DF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A21E02-C7B8-4F79-8922-646B5B07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993234-7394-4472-9EAF-3939A5C2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CBF9FF-C10E-4D6E-8E1C-3080A0AC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F5270-0062-4E67-851E-5D6F9F46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3BC716-7A11-487F-95A7-170222D7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A4A431-5A02-4D89-B6F3-C9EC3B83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530FCF-DB38-420A-844D-C5690FF3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DC623B-F5D6-4831-B6F8-A1E776C0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BAA64E-7214-4BA5-9D18-2C69EB27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3CDCB-F1DC-45A9-A441-88FDA9F7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292-B6BD-400F-B0E3-F5A56F63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B666-097A-4ECA-8009-1DA7308F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60A2D4-33FC-4B58-B740-30028FB0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7057B6-801B-465F-8652-437E7808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73D57E-0B9C-4AB0-8D1B-C383BE8B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5C6B57-3CFF-4322-8E7E-BFF7DD78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4F3CC3-3DCF-4B3F-80D4-24AD23DB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5528C2-FDE6-4463-8267-0C034CCA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263130-E4F1-4064-8758-ED53CF6B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C76747-025E-4638-87DF-9CD52F9A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2D313F-A755-4A58-80E0-684E998F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0E6A44-502E-4BC9-B759-0C292AB1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3739-C51A-4594-91D6-3FCB7910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A95B4F-3631-4462-9AC0-24685E25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76C338-96AB-4EE7-A3BB-29608F6C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13AA56-FE89-4B53-B6DE-E10F886D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8955E7-7ACD-48DC-86C9-D03FF68E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8CC076-8E21-4F0D-9C4D-DA1838C7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9E532C-3F38-4B0B-BF45-6CA583B6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577700-CD77-41D8-BAC6-188FA8AD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90553C-F89F-4D28-BE37-4941FA52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54D117-CC6B-49FC-8816-62399568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15C0EC-58E0-4930-A8A7-F7825B90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7610-437B-453F-B884-8997693C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439551-25F6-484A-95B2-36BB7778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5AB97A-E19D-4917-A2DB-F5AB8449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1499C5-5E3F-4F57-AA8A-F85CE29D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656206-97A4-46F1-8281-5ED5FED2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06F3D9-9C1D-4B78-910D-2C792730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5D732F-3622-4651-8582-53807F28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7C3311-4558-4C3A-AFDB-37A28037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A4BFC3-CC0D-44B9-A5E7-3E043FC8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79556E-CF85-4AD8-AA4E-AF9FA773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77F7F7-FE0D-4A01-9854-6996BAEC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5CF7-8323-47C8-9866-4FBD88BE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2C3131-8679-406A-8972-99D44431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FC5C83-8AB0-4F78-B813-F40ABB31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2750D7-9A8F-41C2-92B9-87765E55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F33555-D3E9-4BCC-A00C-259F2530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B3852A-EF6B-4907-B7BC-46EA9CBB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DED239-7BFC-48C8-A7E5-BA1021E5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70050A-036C-4BAA-A807-718176A1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B1B2AD-FF1E-44E4-9368-53C448C9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0F74CB-163B-4DB5-B5A4-65EF2813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D13C25-15A5-4716-99CD-4B00BCA0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AACA-DF9F-4C2F-9F33-5FF9836A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C959ED-6100-408E-BB9A-6592F9AA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D0B6EE-552D-4784-92C4-B3E4582D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AA4125-F81C-46A7-8F3E-5305B2DF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E90829-9F56-45C0-9321-212B956A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3297DA-506A-4F3A-A0F2-928ED9AD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2D61C5-4086-4C14-A516-698D3D70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0481CF-0E93-45BD-A93C-D4CE98A3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9B151D-71A8-4F1B-B9F0-06126DE1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360915-2354-48D5-8E51-2FD79C8F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471D12-D7B1-4097-8379-A8A5E082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1AD91-0ACD-449A-92D0-7E491638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097332-FB15-4BDF-89C9-3245FBCB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277244-871C-44B0-8CCB-8CFC1AEF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6758EC-4B59-4E2E-B87D-76FB93E3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131335-F4A0-4AC6-A5B4-45946EE3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3B4BAE-E125-4257-A9D3-69341466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0D5535-48A4-474B-B71B-37E4812D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BD1095-76F4-4150-98CF-C637E398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786375-6BAC-474A-B8B0-BF52D2E2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C274F3-B86B-4379-91AA-848F5D54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AAD855-7C55-4055-B411-60D7FE7D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58C17-F4E6-4516-A417-10E4E1F3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5E035A-9BDF-4F15-A627-17E3947F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4AA136-B25E-4BEA-9180-AA155F84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A3FDB7-E906-4881-A7CB-E823A7B0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855946-3149-4895-A026-5238044E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25A514-7390-45F3-ABD8-BA8DCDCD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0BC6C7-CF8D-4CB3-80BF-868FD1A7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F30A31-4897-4A27-A3D9-86B0636C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7D7565-E5B9-4DB6-941A-67449B86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2465FA-4E0A-42D1-B29B-C0B8A040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EE7DFD-5167-4EF8-9977-0B9AB66A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21EF9-270E-499D-9A0D-0DE5C997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CC5251-593A-4C8F-8591-9D3DB763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C10663-5B84-4B30-851C-0B2CB6C0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035008-7D80-4800-B0A2-1A1CD271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610F8E-C585-455B-BBDF-F203B09B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70DAFF-7CAF-486A-9D94-E8ED574B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6A3F48-976A-415A-ACCC-3CB19D21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71C44A-D717-4B5D-B13B-6D83312D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8FC8A-2627-4DEC-A522-5CA51860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7C017-FE00-4BC4-8FD0-2C673B3B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A79D-9A82-47FC-9DD0-11B46CDC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1B11F-BC09-488D-A61D-FA51241D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E2FFA-56C9-4A2F-B79F-823395AD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22507-A1D5-4C75-A8E2-B5261E75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CFB3C-BF2C-44B5-BF04-787B547C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A5600-B2C1-472B-8F56-63E14185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F1ED9-7CD5-444D-ABB5-072A8E9E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77372-F893-4F0A-A3AE-03E6075E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5FCC8-721B-4E97-9EB7-231BAA60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2A3AC-D955-44CE-BB75-F4C0AAE7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C5061-6A85-455F-B228-36067A91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7F13-0699-4EB4-9296-5CF17776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B8FFF-9495-4A14-A204-F3E3871E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0D07C-34C7-4078-92F3-BB184B37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CDAA1-BF86-47A7-B642-E3E0DD1C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75CD8-5184-4D12-914B-E9619ADD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B4DAA-8BE2-463B-A0D8-97DDF40B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A0024-0B37-45FF-9A1F-3E9C5E4E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656E2-69C7-4F9B-859A-142752B0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9E9FE-D8E4-463B-8457-5933527F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1D5CE-DB4D-4F5E-98EB-AD6F3CF3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AF5D2-00A2-4C11-B321-66DD1C0E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ADA-3083-4395-BC31-C1256179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069DE-4094-4CDF-9841-0F3E4D50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EF456-08BF-4885-99D1-8EA74B95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F1122-D9E1-4DA4-8989-FEFDD993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16113-5B12-4812-9041-AB5E0CEF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8F387-7516-439C-988E-E93BEA72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00CD8-9052-4A6A-9FC9-7A09ADA4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156A6-5144-41C0-84AF-EAC94854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D710E-BEB4-432B-A518-3989F7CD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5390F-28D3-4A58-8301-D1165D2B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F0AC8-E66E-4898-88D6-EE9E840E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934-4381-4EA0-81E9-89B219C3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A9283-C653-4500-8B10-186004C5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0876C-8E20-428F-BB36-E8460835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32B04-56B6-42F8-A6FE-831D937F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E713A-D2AE-455F-9999-F10A584A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76B8B-A1E3-40B6-B5A7-E9560FC8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D7B0A-375C-4F2F-AA07-58C0D9FA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EF916-DC63-4D43-9CA6-9053F57C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9EB1A-B927-4F31-928E-89B12DAF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1AFCC-F9FB-443C-9AFB-819745A7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AC036-D25E-48B0-B26E-B000B4D8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FF6-A8E5-4829-B4F9-FC8A5383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E065D-45E8-47FC-AA50-5FE0E90F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98084-3D2E-4058-912E-981F4A01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43094-08CE-4DFB-AFF3-D2762F78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F9692-8AF8-4B67-A51E-DBE2C4D5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55CD7-3C32-4B95-8549-539E9748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B52F8-59A1-4999-99F7-F6ADE0B4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EB51D-5D28-4E47-B059-D517770D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5F154-3DB6-4A32-A0CB-32377ECF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654A8-4E80-4BDE-A0B5-D60B190E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A345A-8871-4871-A897-56A112E0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40B-175A-451A-A6D7-3D435834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94A36-9B13-40EF-8FD0-8A50C5CA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EF12F-D6FA-4962-A2C6-0800FA41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C0C3F-9D58-43B6-8A29-E58625F6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1D747-5DA8-4456-B02C-A30390A4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AECF8-AE21-4432-98EE-17F3903C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60814-E74C-447F-8580-1D498413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EE84D-E966-41E4-AADC-10C6CAE7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89FE4-D026-418E-B03E-9F0395B4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84EA1-CCC1-4E7F-B74D-3BE5CE07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6FCD1-A9D8-49AA-A73F-3415AF49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EC5-B9C2-4A78-8AE8-730E9054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8849D-4454-4BA0-B178-FEC883DE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2E6FF-F542-49CD-88DD-87FEAAF1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22946-D273-4798-82B3-C97AF44A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2DB3E-3574-4B7F-9D27-F2E934CA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E77CB-D074-418D-897A-61C52E89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C91AC-BDC1-4297-8125-887E407C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9CBD1-DB7A-4F32-86D0-41DE9A55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DFF23-46B7-4C51-9EF4-380F4B13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C5A10-D2EE-48EB-BD99-8099A949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74DBF-B80D-4517-91F6-FD8D9956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2DCF-32F0-4B8C-9DA5-9A8B7B02EC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C:/Users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C:/Users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F81B-7BEF-4DFD-8961-BA5EBC2EB5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C79A-0A24-47BA-A637-D27E2F2131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C:/Users/1V994W2/Documents/Tencent%20Files/574576071/FileRecv/拼装素材/小清新-34/06/subject_holdright_226,69,78_0_lively_full_0.png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A4BC-7275-4E32-A39E-6A011F60FF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F57A-A22B-4E0D-81BD-3AAC94CE2A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C913-2E05-4695-881C-9A7755CB96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AA57-A47C-4079-B84A-A93686D6E9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C:/Users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C:/Users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D32F-F489-42B6-806C-7AF8F1549A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CD0A-9205-4573-9F95-DB639334CB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C:/Users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C:/Users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ABF7-37FD-406D-BE97-A33D75410C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BD05-6ED5-4686-80ED-E9AB681898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C:/Users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C:/Users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2979-4FE5-4AEF-B080-511D025E42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A51F-A0D6-40A8-BA43-6214F4328E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C:/Users/1V994W2/Documents/Tencent%20Files/574576071/FileRecv/拼装素材/小清新-34/06/subject_holdright_226,69,78_0_lively_full_0.png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C:/Users/1V994W2/PycharmProjects/PPT_Background_Generation/pic_temp/0_pic_quater_left_up.png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937A-A946-4E04-88BB-4B1B26ABDA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6E9C-D17D-4ECC-8BCD-AE9BF763CB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C:/Users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C:/Users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62FA-6B69-4959-876B-A1F4C57848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CDF8-D89C-431D-B04D-EE27C5CB2E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C:/Users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C:/Users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5B97-BB0F-4331-AF2C-927BDC5F9F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9465-F8FB-4011-80ED-8AF9024C61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C:/Users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207D-4783-4412-A138-94D680AE9B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585F-8ABE-45A5-9413-4330A77E1B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F9DF-5F04-4786-9D7D-B2BAD7E6225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C:/Users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C:/Users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8659-6B46-40DD-AC77-4224660F52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E91A-C6F8-4073-A9E7-CC86BE01B9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C:/Users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C:/Users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7E47-C818-4DF5-B683-DC979EF165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FF57-F222-4607-AF4C-F7707D50A8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C:/Users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C:/Users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7183-A4C2-4277-ACC8-9E51D28054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CB1F-B37F-4D6A-80FB-6811601DB7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C:/Users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C:/Users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92EA-B11F-4AD7-9410-E674348D63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A7AD-C0E8-44C2-95FB-952D964039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7FCC-49BD-4622-A335-E43CBCD713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2A68-A250-4D4F-A8CA-FDD34FC710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08CC-933F-49C7-ADDD-CB606A4E3F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8C4D-E60C-4D15-BC3B-B31E1A93CBE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C:/Users/1V994W2/Documents/Tencent%20Files/574576071/FileRecv/拼装素材/小清新-34/06/subject_holdright_226,69,78_0_lively_full_0.png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5953-2235-47BF-A6C3-67F32BD57A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0088-B577-4166-9F8D-8949158B78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C:/Users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C:/Users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A263-B831-40F6-9D67-4484C0A3A6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7B1E-188E-4F02-85E0-B7D35B62B6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C:/Users/1V994W2/PycharmProjects/PPT_Background_Generation/pic_temp/pic_half_left.png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C:/Users/1V994W2/PycharmProjects/PPT_Background_Generation/pic_temp/pic_half_right.png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0EDC-C743-4D14-8D39-146724DA7E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6D07-D988-40BD-BF76-81C0E392FB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C:/Users/1V994W2/PycharmProjects/PPT_Background_Generation/pic_temp/0_pic_quater_left_up.png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C:/Users/1V994W2/PycharmProjects/PPT_Background_Generation/pic_temp/1_pic_quater_right_up.png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FA5A-71E8-46FE-A593-9035B7E929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4320-6D0C-4182-9B72-E97853B15A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328760" y="2795760"/>
            <a:ext cx="6486480" cy="12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19160" y="1333440"/>
            <a:ext cx="8905680" cy="41911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564000" y="24354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788000" y="2421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7667640" y="2809800"/>
            <a:ext cx="576360" cy="3193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3780000" y="3213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6012000" y="3213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611280" y="5229360"/>
            <a:ext cx="1224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195120" y="1328760"/>
            <a:ext cx="8753760" cy="4200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1403280" y="34005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4284720" y="34005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7596360" y="34005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2268360" y="50990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6"/>
          <a:stretch/>
        </p:blipFill>
        <p:spPr>
          <a:xfrm>
            <a:off x="7985160" y="509904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333360" y="1714680"/>
            <a:ext cx="8477280" cy="342900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396720" y="1484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1835280" y="3803760"/>
            <a:ext cx="51847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9:45:5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